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CA7-A81B-4003-B3D1-65E408F9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0FFB-B606-48A0-B7E7-C10A38A08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AF9-00A2-46B2-A8D3-9D00D791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2CB-3EB5-4626-8518-C7D0689B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052-B285-47D8-9F2C-3084A98D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3A8-A513-4996-8B34-1B003CE1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A5E0-560C-46B8-AD4E-813CE6F9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D8A4-96E3-4C39-AE61-8B0C995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E1A9-E8A5-49AC-9ACD-5072430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C155-31A2-4038-BED7-C3F450C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F80B-A626-439F-B474-1B957284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9EE6-23DE-42FC-8C93-C8D5A18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224-D248-4D51-B25B-C96B7690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900-10A8-4660-9878-151A95D9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D2EC-EA5F-4A49-9AE9-9D0611A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6D3-6896-44FE-8BC3-C5CF154C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1A74-4BA0-436F-9B91-214DED03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78B-183F-49AA-AF11-9F7112F7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C415-7C6B-4F2C-93B4-4A24519B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B13-FDD7-4A41-81E5-48C4DF59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C7A-5305-4137-AC24-80CBC159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4F8-5BC2-4F32-8C15-F62B9A0E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9BE-5653-4235-BC9F-1087521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F64-E249-42B9-A623-A801B49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48E-F880-40C9-9F22-F6F1F8A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C5D-680F-44FA-8717-C46F528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B654-FE0F-4A7E-9035-FD8ACEAA115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80E-AFE5-45B9-8D99-0AE29E92B92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Triang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2416320" y="2549520"/>
            <a:ext cx="1403280" cy="76824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 rot="3628800">
            <a:off x="3996360" y="3326400"/>
            <a:ext cx="2808360" cy="1594080"/>
          </a:xfrm>
          <a:custGeom>
            <a:avLst/>
            <a:gdLst>
              <a:gd name="textAreaLeft" fmla="*/ 0 w 2808360"/>
              <a:gd name="textAreaRight" fmla="*/ 2808360 w 2808360"/>
              <a:gd name="textAreaTop" fmla="*/ 0 h 1594080"/>
              <a:gd name="textAreaBottom" fmla="*/ 1594440 h 1594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ummary – Similar shap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calculate missing sides, we first of all need the scale fa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e then either multiply or divide by the scale fact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o show that 2 shapes are similar we can either show that all of the sides are connected by the scale factor or show that matching angles are the sam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re Enlargements of each oth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rresponding angles are equa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ides are related by the same scale fact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4" descr="knight_shield_peek_md_wht"/>
          <p:cNvPicPr/>
          <p:nvPr/>
        </p:nvPicPr>
        <p:blipFill>
          <a:blip r:embed="rId1"/>
          <a:stretch/>
        </p:blipFill>
        <p:spPr>
          <a:xfrm>
            <a:off x="3132000" y="4292640"/>
            <a:ext cx="83520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knight_shield_peek_md_wht"/>
          <p:cNvPicPr/>
          <p:nvPr/>
        </p:nvPicPr>
        <p:blipFill>
          <a:blip r:embed="rId2"/>
          <a:stretch/>
        </p:blipFill>
        <p:spPr>
          <a:xfrm>
            <a:off x="5029200" y="4089240"/>
            <a:ext cx="153684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Similar Triangl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1908000" y="1916280"/>
            <a:ext cx="2159280" cy="100800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2268360" y="3429000"/>
            <a:ext cx="4319640" cy="2089080"/>
          </a:xfrm>
          <a:custGeom>
            <a:avLst/>
            <a:gdLst>
              <a:gd name="textAreaLeft" fmla="*/ 0 w 4319640"/>
              <a:gd name="textAreaRight" fmla="*/ 4320000 w 43196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2"/>
          <p:cNvSpPr/>
          <p:nvPr/>
        </p:nvSpPr>
        <p:spPr>
          <a:xfrm>
            <a:off x="2627280" y="5003640"/>
            <a:ext cx="289080" cy="432000"/>
          </a:xfrm>
          <a:custGeom>
            <a:avLst/>
            <a:gdLst>
              <a:gd name="textAreaLeft" fmla="*/ 0 w 289080"/>
              <a:gd name="textAreaRight" fmla="*/ 289440 w 289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82" h="272">
                <a:moveTo>
                  <a:pt x="0" y="0"/>
                </a:moveTo>
                <a:cubicBezTo>
                  <a:pt x="53" y="23"/>
                  <a:pt x="106" y="46"/>
                  <a:pt x="136" y="91"/>
                </a:cubicBezTo>
                <a:cubicBezTo>
                  <a:pt x="166" y="136"/>
                  <a:pt x="174" y="204"/>
                  <a:pt x="182" y="2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789640" y="4896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2211480" y="2492280"/>
            <a:ext cx="215640" cy="360360"/>
          </a:xfrm>
          <a:custGeom>
            <a:avLst/>
            <a:gdLst>
              <a:gd name="textAreaLeft" fmla="*/ 0 w 215640"/>
              <a:gd name="textAreaRight" fmla="*/ 216000 w 215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82" h="272">
                <a:moveTo>
                  <a:pt x="0" y="0"/>
                </a:moveTo>
                <a:cubicBezTo>
                  <a:pt x="53" y="23"/>
                  <a:pt x="106" y="46"/>
                  <a:pt x="136" y="91"/>
                </a:cubicBezTo>
                <a:cubicBezTo>
                  <a:pt x="166" y="136"/>
                  <a:pt x="174" y="204"/>
                  <a:pt x="182" y="2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549800" y="23493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6"/>
          <p:cNvSpPr/>
          <p:nvPr/>
        </p:nvSpPr>
        <p:spPr>
          <a:xfrm rot="21045000">
            <a:off x="5776920" y="4581000"/>
            <a:ext cx="166680" cy="432000"/>
          </a:xfrm>
          <a:custGeom>
            <a:avLst/>
            <a:gdLst>
              <a:gd name="textAreaLeft" fmla="*/ 0 w 166680"/>
              <a:gd name="textAreaRight" fmla="*/ 167040 w 1666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5" h="272">
                <a:moveTo>
                  <a:pt x="105" y="0"/>
                </a:moveTo>
                <a:cubicBezTo>
                  <a:pt x="67" y="45"/>
                  <a:pt x="30" y="91"/>
                  <a:pt x="15" y="136"/>
                </a:cubicBezTo>
                <a:cubicBezTo>
                  <a:pt x="0" y="181"/>
                  <a:pt x="7" y="226"/>
                  <a:pt x="15" y="27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7"/>
          <p:cNvSpPr/>
          <p:nvPr/>
        </p:nvSpPr>
        <p:spPr>
          <a:xfrm>
            <a:off x="3348000" y="2349360"/>
            <a:ext cx="166680" cy="358920"/>
          </a:xfrm>
          <a:custGeom>
            <a:avLst/>
            <a:gdLst>
              <a:gd name="textAreaLeft" fmla="*/ 0 w 166680"/>
              <a:gd name="textAreaRight" fmla="*/ 167040 w 1666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05" h="272">
                <a:moveTo>
                  <a:pt x="105" y="0"/>
                </a:moveTo>
                <a:cubicBezTo>
                  <a:pt x="67" y="45"/>
                  <a:pt x="30" y="91"/>
                  <a:pt x="15" y="136"/>
                </a:cubicBezTo>
                <a:cubicBezTo>
                  <a:pt x="0" y="181"/>
                  <a:pt x="7" y="226"/>
                  <a:pt x="15" y="272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5204520" y="46465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710520" y="2133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0"/>
          <p:cNvSpPr/>
          <p:nvPr/>
        </p:nvSpPr>
        <p:spPr>
          <a:xfrm>
            <a:off x="3419640" y="3716280"/>
            <a:ext cx="792000" cy="241200"/>
          </a:xfrm>
          <a:custGeom>
            <a:avLst/>
            <a:gdLst>
              <a:gd name="textAreaLeft" fmla="*/ 0 w 792000"/>
              <a:gd name="textAreaRight" fmla="*/ 792360 w 792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499" h="152">
                <a:moveTo>
                  <a:pt x="0" y="91"/>
                </a:moveTo>
                <a:cubicBezTo>
                  <a:pt x="72" y="121"/>
                  <a:pt x="144" y="152"/>
                  <a:pt x="227" y="137"/>
                </a:cubicBezTo>
                <a:cubicBezTo>
                  <a:pt x="310" y="122"/>
                  <a:pt x="454" y="23"/>
                  <a:pt x="499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"/>
          <p:cNvSpPr/>
          <p:nvPr/>
        </p:nvSpPr>
        <p:spPr>
          <a:xfrm>
            <a:off x="2484360" y="2060640"/>
            <a:ext cx="432000" cy="169920"/>
          </a:xfrm>
          <a:custGeom>
            <a:avLst/>
            <a:gdLst>
              <a:gd name="textAreaLeft" fmla="*/ 0 w 432000"/>
              <a:gd name="textAreaRight" fmla="*/ 432360 w 43200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499" h="152">
                <a:moveTo>
                  <a:pt x="0" y="91"/>
                </a:moveTo>
                <a:cubicBezTo>
                  <a:pt x="72" y="121"/>
                  <a:pt x="144" y="152"/>
                  <a:pt x="227" y="137"/>
                </a:cubicBezTo>
                <a:cubicBezTo>
                  <a:pt x="310" y="122"/>
                  <a:pt x="454" y="23"/>
                  <a:pt x="499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566520" y="3933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10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342520" y="1700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10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788720" y="141300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riangles are similar if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ngles remain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324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Show that these triangles are simil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Freeform 4"/>
          <p:cNvSpPr/>
          <p:nvPr/>
        </p:nvSpPr>
        <p:spPr>
          <a:xfrm flipH="1" rot="7461000">
            <a:off x="4575960" y="2128320"/>
            <a:ext cx="2270160" cy="695520"/>
          </a:xfrm>
          <a:custGeom>
            <a:avLst/>
            <a:gdLst>
              <a:gd name="textAreaLeft" fmla="*/ 360 w 2270160"/>
              <a:gd name="textAreaRight" fmla="*/ 2270880 w 227016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"/>
          <p:cNvSpPr/>
          <p:nvPr/>
        </p:nvSpPr>
        <p:spPr>
          <a:xfrm flipH="1">
            <a:off x="1193760" y="4076640"/>
            <a:ext cx="4538880" cy="1441440"/>
          </a:xfrm>
          <a:custGeom>
            <a:avLst/>
            <a:gdLst>
              <a:gd name="textAreaLeft" fmla="*/ 360 w 4538880"/>
              <a:gd name="textAreaRight" fmla="*/ 4539600 w 453888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flipH="1">
            <a:off x="4577040" y="4941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 flipH="1">
            <a:off x="5153760" y="26370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5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flipH="1">
            <a:off x="6158160" y="16286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flipH="1">
            <a:off x="2237040" y="47912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 flipH="1">
            <a:off x="3637440" y="4365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 flipH="1">
            <a:off x="5869440" y="27082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8"/>
          <p:cNvSpPr/>
          <p:nvPr/>
        </p:nvSpPr>
        <p:spPr>
          <a:xfrm rot="2673600">
            <a:off x="2017440" y="4836600"/>
            <a:ext cx="353880" cy="368280"/>
          </a:xfrm>
          <a:custGeom>
            <a:avLst/>
            <a:gdLst>
              <a:gd name="textAreaLeft" fmla="*/ 0 w 353880"/>
              <a:gd name="textAreaRight" fmla="*/ 354240 w 3538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fill="none" w="20755" h="21600">
                <a:moveTo>
                  <a:pt x="-1" y="0"/>
                </a:moveTo>
                <a:cubicBezTo>
                  <a:pt x="9624" y="0"/>
                  <a:pt x="18088" y="6368"/>
                  <a:pt x="20754" y="15616"/>
                </a:cubicBezTo>
              </a:path>
              <a:path stroke="0" w="20755" h="21600">
                <a:moveTo>
                  <a:pt x="-1" y="0"/>
                </a:moveTo>
                <a:cubicBezTo>
                  <a:pt x="9624" y="0"/>
                  <a:pt x="18088" y="6368"/>
                  <a:pt x="20754" y="156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1"/>
          <p:cNvSpPr/>
          <p:nvPr/>
        </p:nvSpPr>
        <p:spPr>
          <a:xfrm rot="8862000">
            <a:off x="3974760" y="4051080"/>
            <a:ext cx="399960" cy="399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22"/>
          <p:cNvSpPr/>
          <p:nvPr/>
        </p:nvSpPr>
        <p:spPr>
          <a:xfrm rot="15454200">
            <a:off x="5051880" y="5020200"/>
            <a:ext cx="363600" cy="399960"/>
          </a:xfrm>
          <a:custGeom>
            <a:avLst/>
            <a:gdLst>
              <a:gd name="textAreaLeft" fmla="*/ 0 w 363600"/>
              <a:gd name="textAreaRight" fmla="*/ 363960 w 3636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19630" h="21600">
                <a:moveTo>
                  <a:pt x="-1" y="0"/>
                </a:moveTo>
                <a:cubicBezTo>
                  <a:pt x="8440" y="0"/>
                  <a:pt x="16108" y="4916"/>
                  <a:pt x="19630" y="12587"/>
                </a:cubicBezTo>
              </a:path>
              <a:path stroke="0" w="19630" h="21600">
                <a:moveTo>
                  <a:pt x="-1" y="0"/>
                </a:moveTo>
                <a:cubicBezTo>
                  <a:pt x="8440" y="0"/>
                  <a:pt x="16108" y="4916"/>
                  <a:pt x="19630" y="125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rc 23"/>
          <p:cNvSpPr/>
          <p:nvPr/>
        </p:nvSpPr>
        <p:spPr>
          <a:xfrm rot="7795200">
            <a:off x="5903640" y="1680840"/>
            <a:ext cx="399960" cy="190440"/>
          </a:xfrm>
          <a:custGeom>
            <a:avLst/>
            <a:gdLst>
              <a:gd name="textAreaLeft" fmla="*/ 0 w 399960"/>
              <a:gd name="textAreaRight" fmla="*/ 400320 w 3999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fill="none" w="21600" h="10275">
                <a:moveTo>
                  <a:pt x="18999" y="0"/>
                </a:moveTo>
                <a:cubicBezTo>
                  <a:pt x="20706" y="3156"/>
                  <a:pt x="21600" y="6687"/>
                  <a:pt x="21600" y="10275"/>
                </a:cubicBezTo>
              </a:path>
              <a:path stroke="0" w="21600" h="10275">
                <a:moveTo>
                  <a:pt x="18999" y="0"/>
                </a:moveTo>
                <a:cubicBezTo>
                  <a:pt x="20706" y="3156"/>
                  <a:pt x="21600" y="6687"/>
                  <a:pt x="21600" y="10275"/>
                </a:cubicBezTo>
                <a:lnTo>
                  <a:pt x="0" y="10275"/>
                </a:lnTo>
                <a:lnTo>
                  <a:pt x="18999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rc 24"/>
          <p:cNvSpPr/>
          <p:nvPr/>
        </p:nvSpPr>
        <p:spPr>
          <a:xfrm rot="954600">
            <a:off x="4803480" y="2944440"/>
            <a:ext cx="331560" cy="366840"/>
          </a:xfrm>
          <a:custGeom>
            <a:avLst/>
            <a:gdLst>
              <a:gd name="textAreaLeft" fmla="*/ 0 w 331560"/>
              <a:gd name="textAreaRight" fmla="*/ 331920 w 33156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fill="none" w="17903" h="19807">
                <a:moveTo>
                  <a:pt x="8616" y="-1"/>
                </a:moveTo>
                <a:cubicBezTo>
                  <a:pt x="12383" y="1638"/>
                  <a:pt x="15604" y="4317"/>
                  <a:pt x="17902" y="7722"/>
                </a:cubicBezTo>
              </a:path>
              <a:path stroke="0" w="17903" h="19807">
                <a:moveTo>
                  <a:pt x="8616" y="-1"/>
                </a:moveTo>
                <a:cubicBezTo>
                  <a:pt x="12383" y="1638"/>
                  <a:pt x="15604" y="4317"/>
                  <a:pt x="17902" y="7722"/>
                </a:cubicBezTo>
                <a:lnTo>
                  <a:pt x="0" y="19807"/>
                </a:lnTo>
                <a:lnTo>
                  <a:pt x="8616" y="-1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rc 25"/>
          <p:cNvSpPr/>
          <p:nvPr/>
        </p:nvSpPr>
        <p:spPr>
          <a:xfrm rot="16553400">
            <a:off x="5592600" y="2653560"/>
            <a:ext cx="377640" cy="399960"/>
          </a:xfrm>
          <a:custGeom>
            <a:avLst/>
            <a:gdLst>
              <a:gd name="textAreaLeft" fmla="*/ 0 w 377640"/>
              <a:gd name="textAreaRight" fmla="*/ 378000 w 377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6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6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To calculate a length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Freeform 4"/>
          <p:cNvSpPr/>
          <p:nvPr/>
        </p:nvSpPr>
        <p:spPr>
          <a:xfrm flipH="1">
            <a:off x="3166920" y="1916280"/>
            <a:ext cx="1836720" cy="1008000"/>
          </a:xfrm>
          <a:custGeom>
            <a:avLst/>
            <a:gdLst>
              <a:gd name="textAreaLeft" fmla="*/ 360 w 1836720"/>
              <a:gd name="textAreaRight" fmla="*/ 1837440 w 18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"/>
          <p:cNvSpPr/>
          <p:nvPr/>
        </p:nvSpPr>
        <p:spPr>
          <a:xfrm flipH="1">
            <a:off x="1691640" y="3429000"/>
            <a:ext cx="3671640" cy="2089080"/>
          </a:xfrm>
          <a:custGeom>
            <a:avLst/>
            <a:gdLst>
              <a:gd name="textAreaLeft" fmla="*/ -360 w 3671640"/>
              <a:gd name="textAreaRight" fmla="*/ 3671640 w 36716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360" h="635">
                <a:moveTo>
                  <a:pt x="453" y="0"/>
                </a:moveTo>
                <a:lnTo>
                  <a:pt x="1360" y="453"/>
                </a:lnTo>
                <a:lnTo>
                  <a:pt x="0" y="635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71852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1380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565800" y="18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05800" y="5227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99780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718520" y="4003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1549080" y="1989000"/>
            <a:ext cx="6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2255760" y="2133720"/>
            <a:ext cx="1236600" cy="165564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9" h="1043">
                <a:moveTo>
                  <a:pt x="779" y="0"/>
                </a:moveTo>
                <a:cubicBezTo>
                  <a:pt x="487" y="3"/>
                  <a:pt x="196" y="7"/>
                  <a:pt x="98" y="181"/>
                </a:cubicBezTo>
                <a:cubicBezTo>
                  <a:pt x="0" y="355"/>
                  <a:pt x="94" y="699"/>
                  <a:pt x="189" y="104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909440" y="242100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9"/>
          <p:cNvSpPr/>
          <p:nvPr/>
        </p:nvSpPr>
        <p:spPr>
          <a:xfrm flipH="1" rot="855600">
            <a:off x="4849560" y="2347560"/>
            <a:ext cx="647640" cy="1655640"/>
          </a:xfrm>
          <a:custGeom>
            <a:avLst/>
            <a:gdLst>
              <a:gd name="textAreaLeft" fmla="*/ 0 w 647640"/>
              <a:gd name="textAreaRight" fmla="*/ 64764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9" h="1043">
                <a:moveTo>
                  <a:pt x="779" y="0"/>
                </a:moveTo>
                <a:cubicBezTo>
                  <a:pt x="487" y="3"/>
                  <a:pt x="196" y="7"/>
                  <a:pt x="98" y="181"/>
                </a:cubicBezTo>
                <a:cubicBezTo>
                  <a:pt x="0" y="355"/>
                  <a:pt x="94" y="699"/>
                  <a:pt x="189" y="104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5083200" y="249228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 flipV="1">
            <a:off x="3564000" y="3213000"/>
            <a:ext cx="503280" cy="1944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3781440" y="4005360"/>
            <a:ext cx="51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829080" y="30621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cale fact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2558160" y="5661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cale factor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Harder exampl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747720" y="1281240"/>
            <a:ext cx="6365160" cy="2590920"/>
            <a:chOff x="747720" y="1281240"/>
            <a:chExt cx="6365160" cy="2590920"/>
          </a:xfrm>
        </p:grpSpPr>
        <p:sp>
          <p:nvSpPr>
            <p:cNvPr id="147" name="Text Box 18"/>
            <p:cNvSpPr/>
            <p:nvPr/>
          </p:nvSpPr>
          <p:spPr>
            <a:xfrm>
              <a:off x="6767640" y="3313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3"/>
            <p:cNvGrpSpPr/>
            <p:nvPr/>
          </p:nvGrpSpPr>
          <p:grpSpPr>
            <a:xfrm>
              <a:off x="747720" y="1281240"/>
              <a:ext cx="6072120" cy="2590920"/>
              <a:chOff x="747720" y="1281240"/>
              <a:chExt cx="6072120" cy="2590920"/>
            </a:xfrm>
          </p:grpSpPr>
          <p:sp>
            <p:nvSpPr>
              <p:cNvPr id="149" name="Freeform 13"/>
              <p:cNvSpPr/>
              <p:nvPr/>
            </p:nvSpPr>
            <p:spPr>
              <a:xfrm>
                <a:off x="1181160" y="1587600"/>
                <a:ext cx="5638680" cy="2070000"/>
              </a:xfrm>
              <a:custGeom>
                <a:avLst/>
                <a:gdLst>
                  <a:gd name="textAreaLeft" fmla="*/ 0 w 5638680"/>
                  <a:gd name="textAreaRight" fmla="*/ 5639040 w 5638680"/>
                  <a:gd name="textAreaTop" fmla="*/ 0 h 2070000"/>
                  <a:gd name="textAreaBottom" fmla="*/ 2070360 h 207000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2"/>
              <p:cNvSpPr/>
              <p:nvPr/>
            </p:nvSpPr>
            <p:spPr>
              <a:xfrm>
                <a:off x="2984400" y="1575000"/>
                <a:ext cx="1676520" cy="62208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4"/>
              <p:cNvSpPr/>
              <p:nvPr/>
            </p:nvSpPr>
            <p:spPr>
              <a:xfrm>
                <a:off x="3732480" y="12812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5"/>
              <p:cNvSpPr/>
              <p:nvPr/>
            </p:nvSpPr>
            <p:spPr>
              <a:xfrm>
                <a:off x="5053320" y="21448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2284560" y="2144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747720" y="35038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4038480" y="2070360"/>
                <a:ext cx="203400" cy="2286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0" y="0"/>
                    </a:moveTo>
                    <a:lnTo>
                      <a:pt x="128" y="80"/>
                    </a:lnTo>
                    <a:lnTo>
                      <a:pt x="16" y="14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4013280" y="3530880"/>
                <a:ext cx="203040" cy="2286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8" h="144">
                    <a:moveTo>
                      <a:pt x="0" y="0"/>
                    </a:moveTo>
                    <a:lnTo>
                      <a:pt x="128" y="80"/>
                    </a:lnTo>
                    <a:lnTo>
                      <a:pt x="16" y="14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22"/>
          <p:cNvSpPr/>
          <p:nvPr/>
        </p:nvSpPr>
        <p:spPr>
          <a:xfrm>
            <a:off x="1169280" y="4024440"/>
            <a:ext cx="41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iangle ABC is similar to triangle 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is parallel to 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 the length of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4214520" y="15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637240" y="250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617640" y="178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Harder exampl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80600" y="33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1155600" y="1689120"/>
            <a:ext cx="5639040" cy="2070000"/>
          </a:xfrm>
          <a:custGeom>
            <a:avLst/>
            <a:gdLst>
              <a:gd name="textAreaLeft" fmla="*/ 0 w 5639040"/>
              <a:gd name="textAreaRight" fmla="*/ 5639400 w 563904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1536" h="520">
                <a:moveTo>
                  <a:pt x="0" y="520"/>
                </a:moveTo>
                <a:lnTo>
                  <a:pt x="696" y="0"/>
                </a:lnTo>
                <a:lnTo>
                  <a:pt x="1536" y="520"/>
                </a:lnTo>
                <a:lnTo>
                  <a:pt x="0" y="52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948120" y="1496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963720" y="37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"/>
          <p:cNvSpPr/>
          <p:nvPr/>
        </p:nvSpPr>
        <p:spPr>
          <a:xfrm>
            <a:off x="4229280" y="3645000"/>
            <a:ext cx="203040" cy="228600"/>
          </a:xfrm>
          <a:custGeom>
            <a:avLst/>
            <a:gdLst>
              <a:gd name="textAreaLeft" fmla="*/ 0 w 203040"/>
              <a:gd name="textAreaRight" fmla="*/ 203400 w 2030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8" h="144">
                <a:moveTo>
                  <a:pt x="0" y="0"/>
                </a:moveTo>
                <a:lnTo>
                  <a:pt x="128" y="80"/>
                </a:lnTo>
                <a:lnTo>
                  <a:pt x="16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2449800" y="1649520"/>
            <a:ext cx="2593440" cy="799920"/>
            <a:chOff x="2449800" y="1649520"/>
            <a:chExt cx="2593440" cy="799920"/>
          </a:xfrm>
        </p:grpSpPr>
        <p:sp>
          <p:nvSpPr>
            <p:cNvPr id="168" name="Text Box 10"/>
            <p:cNvSpPr/>
            <p:nvPr/>
          </p:nvSpPr>
          <p:spPr>
            <a:xfrm>
              <a:off x="4710240" y="2030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449800" y="208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8"/>
            <p:cNvGrpSpPr/>
            <p:nvPr/>
          </p:nvGrpSpPr>
          <p:grpSpPr>
            <a:xfrm>
              <a:off x="2959200" y="1649520"/>
              <a:ext cx="1676160" cy="662040"/>
              <a:chOff x="2959200" y="1649520"/>
              <a:chExt cx="1676160" cy="66204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2959200" y="1689120"/>
                <a:ext cx="1676160" cy="62244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1536" h="520">
                    <a:moveTo>
                      <a:pt x="0" y="520"/>
                    </a:moveTo>
                    <a:lnTo>
                      <a:pt x="696" y="0"/>
                    </a:lnTo>
                    <a:lnTo>
                      <a:pt x="1536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5"/>
              <p:cNvSpPr/>
              <p:nvPr/>
            </p:nvSpPr>
            <p:spPr>
              <a:xfrm>
                <a:off x="4188600" y="1649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7"/>
              <p:cNvSpPr/>
              <p:nvPr/>
            </p:nvSpPr>
            <p:spPr>
              <a:xfrm>
                <a:off x="3591720" y="1903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5852880" y="2716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"/>
          <p:cNvSpPr/>
          <p:nvPr/>
        </p:nvSpPr>
        <p:spPr>
          <a:xfrm>
            <a:off x="4254480" y="2197080"/>
            <a:ext cx="203400" cy="228600"/>
          </a:xfrm>
          <a:custGeom>
            <a:avLst/>
            <a:gdLst>
              <a:gd name="textAreaLeft" fmla="*/ 0 w 203400"/>
              <a:gd name="textAreaRight" fmla="*/ 203760 w 203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8" h="144">
                <a:moveTo>
                  <a:pt x="0" y="0"/>
                </a:moveTo>
                <a:lnTo>
                  <a:pt x="128" y="80"/>
                </a:lnTo>
                <a:lnTo>
                  <a:pt x="16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4152960" y="1473120"/>
            <a:ext cx="3276720" cy="2222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852880" y="215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4572000" y="2527200"/>
            <a:ext cx="1371600" cy="1486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5359320" y="3944880"/>
            <a:ext cx="40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5389560" y="395748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3845880" y="3429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and the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308240" y="2489040"/>
            <a:ext cx="4546440" cy="2438640"/>
          </a:xfrm>
          <a:custGeom>
            <a:avLst/>
            <a:gdLst>
              <a:gd name="textAreaLeft" fmla="*/ 0 w 4546440"/>
              <a:gd name="textAreaRight" fmla="*/ 4546800 w 45464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864" h="1536">
                <a:moveTo>
                  <a:pt x="408" y="0"/>
                </a:moveTo>
                <a:lnTo>
                  <a:pt x="2240" y="0"/>
                </a:lnTo>
                <a:lnTo>
                  <a:pt x="0" y="1536"/>
                </a:lnTo>
                <a:lnTo>
                  <a:pt x="2864" y="1536"/>
                </a:lnTo>
                <a:lnTo>
                  <a:pt x="408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97240" y="2195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8172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954760" y="473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052640" y="474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849920" y="225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437200" y="298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579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51600" y="210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376800" y="496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1644840" y="15667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 &amp; DE are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4076640" y="236232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4140360" y="482616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528440" y="15796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ain why ABC is similar to 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20"/>
          <p:cNvSpPr/>
          <p:nvPr/>
        </p:nvSpPr>
        <p:spPr>
          <a:xfrm flipH="1" rot="9491400">
            <a:off x="2480760" y="2532960"/>
            <a:ext cx="276480" cy="276120"/>
          </a:xfrm>
          <a:custGeom>
            <a:avLst/>
            <a:gdLst>
              <a:gd name="textAreaLeft" fmla="*/ 360 w 276480"/>
              <a:gd name="textAreaRight" fmla="*/ 277200 w 276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21"/>
          <p:cNvSpPr/>
          <p:nvPr/>
        </p:nvSpPr>
        <p:spPr>
          <a:xfrm flipH="1" rot="19860000">
            <a:off x="5001120" y="458280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22"/>
          <p:cNvSpPr/>
          <p:nvPr/>
        </p:nvSpPr>
        <p:spPr>
          <a:xfrm flipH="1" rot="17326200">
            <a:off x="4116600" y="252252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23"/>
          <p:cNvSpPr/>
          <p:nvPr/>
        </p:nvSpPr>
        <p:spPr>
          <a:xfrm flipH="1" rot="7368000">
            <a:off x="1800360" y="4586040"/>
            <a:ext cx="276120" cy="27576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24"/>
          <p:cNvSpPr/>
          <p:nvPr/>
        </p:nvSpPr>
        <p:spPr>
          <a:xfrm flipH="1" rot="13863000">
            <a:off x="3329640" y="3425400"/>
            <a:ext cx="314280" cy="3726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25"/>
          <p:cNvSpPr/>
          <p:nvPr/>
        </p:nvSpPr>
        <p:spPr>
          <a:xfrm flipH="1" rot="3356400">
            <a:off x="3297600" y="3073680"/>
            <a:ext cx="314280" cy="37296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5097960" y="20970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CED = &lt;BAC 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5097960" y="246060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EDC = &lt;ABC 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5097240" y="282420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ECD = &lt;ACB Vert Opp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1435320" y="5611680"/>
            <a:ext cx="44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riangle ABC is similar to Triangle 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and then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308240" y="2489040"/>
            <a:ext cx="4546440" cy="2438640"/>
          </a:xfrm>
          <a:custGeom>
            <a:avLst/>
            <a:gdLst>
              <a:gd name="textAreaLeft" fmla="*/ 0 w 4546440"/>
              <a:gd name="textAreaRight" fmla="*/ 4546800 w 454644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864" h="1536">
                <a:moveTo>
                  <a:pt x="408" y="0"/>
                </a:moveTo>
                <a:lnTo>
                  <a:pt x="2240" y="0"/>
                </a:lnTo>
                <a:lnTo>
                  <a:pt x="0" y="1536"/>
                </a:lnTo>
                <a:lnTo>
                  <a:pt x="2864" y="1536"/>
                </a:lnTo>
                <a:lnTo>
                  <a:pt x="408" y="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97240" y="2195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681720" y="32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954760" y="4735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052640" y="4748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849920" y="225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437200" y="2982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45579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3351600" y="210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376800" y="496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"/>
          <p:cNvSpPr/>
          <p:nvPr/>
        </p:nvSpPr>
        <p:spPr>
          <a:xfrm>
            <a:off x="4076640" y="236232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"/>
          <p:cNvSpPr/>
          <p:nvPr/>
        </p:nvSpPr>
        <p:spPr>
          <a:xfrm>
            <a:off x="4140360" y="4826160"/>
            <a:ext cx="190440" cy="241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" h="152">
                <a:moveTo>
                  <a:pt x="0" y="0"/>
                </a:moveTo>
                <a:lnTo>
                  <a:pt x="120" y="80"/>
                </a:lnTo>
                <a:lnTo>
                  <a:pt x="8" y="15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1823040" y="1494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 the length of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1960560" y="2486160"/>
            <a:ext cx="1494000" cy="930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3505320" y="3441600"/>
            <a:ext cx="2324160" cy="1473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5545080" y="198900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 Factor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31"/>
          <p:cNvSpPr/>
          <p:nvPr/>
        </p:nvSpPr>
        <p:spPr>
          <a:xfrm flipH="1" rot="9491400">
            <a:off x="2480760" y="2532960"/>
            <a:ext cx="276480" cy="276120"/>
          </a:xfrm>
          <a:custGeom>
            <a:avLst/>
            <a:gdLst>
              <a:gd name="textAreaLeft" fmla="*/ 360 w 276480"/>
              <a:gd name="textAreaRight" fmla="*/ 277200 w 276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32"/>
          <p:cNvSpPr/>
          <p:nvPr/>
        </p:nvSpPr>
        <p:spPr>
          <a:xfrm flipH="1" rot="19860000">
            <a:off x="5001120" y="458280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33"/>
          <p:cNvSpPr/>
          <p:nvPr/>
        </p:nvSpPr>
        <p:spPr>
          <a:xfrm flipH="1" rot="17326200">
            <a:off x="4116600" y="2522520"/>
            <a:ext cx="276120" cy="27612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34"/>
          <p:cNvSpPr/>
          <p:nvPr/>
        </p:nvSpPr>
        <p:spPr>
          <a:xfrm flipH="1" rot="7368000">
            <a:off x="1800360" y="4586040"/>
            <a:ext cx="276120" cy="275760"/>
          </a:xfrm>
          <a:custGeom>
            <a:avLst/>
            <a:gdLst>
              <a:gd name="textAreaLeft" fmla="*/ -360 w 276120"/>
              <a:gd name="textAreaRight" fmla="*/ 276120 w 27612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35"/>
          <p:cNvSpPr/>
          <p:nvPr/>
        </p:nvSpPr>
        <p:spPr>
          <a:xfrm flipH="1" rot="13863000">
            <a:off x="3329640" y="3425400"/>
            <a:ext cx="314280" cy="3726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36"/>
          <p:cNvSpPr/>
          <p:nvPr/>
        </p:nvSpPr>
        <p:spPr>
          <a:xfrm flipH="1" rot="3356400">
            <a:off x="3297600" y="3073680"/>
            <a:ext cx="314280" cy="37296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fill="none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</a:path>
              <a:path stroke="0" w="24593" h="29119">
                <a:moveTo>
                  <a:pt x="0" y="208"/>
                </a:moveTo>
                <a:cubicBezTo>
                  <a:pt x="991" y="69"/>
                  <a:pt x="1991" y="-1"/>
                  <a:pt x="2993" y="0"/>
                </a:cubicBezTo>
                <a:cubicBezTo>
                  <a:pt x="14922" y="0"/>
                  <a:pt x="24593" y="9670"/>
                  <a:pt x="24593" y="21600"/>
                </a:cubicBezTo>
                <a:cubicBezTo>
                  <a:pt x="24593" y="24166"/>
                  <a:pt x="24135" y="26712"/>
                  <a:pt x="23242" y="29119"/>
                </a:cubicBezTo>
                <a:lnTo>
                  <a:pt x="2993" y="21600"/>
                </a:lnTo>
                <a:lnTo>
                  <a:pt x="0" y="208"/>
                </a:lnTo>
                <a:close/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552640" y="15001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 corresponds to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5558760" y="24210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 corresponds 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5556960" y="28684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= 2 x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5545080" y="32558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= 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>
            <a:off x="1981080" y="2486160"/>
            <a:ext cx="28479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>
            <a:off x="1330200" y="4921200"/>
            <a:ext cx="4505400" cy="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52:02Z</dcterms:created>
  <dc:creator>Me</dc:creator>
  <dc:description/>
  <dc:language>en-US</dc:language>
  <cp:lastModifiedBy>chmorgan</cp:lastModifiedBy>
  <dcterms:modified xsi:type="dcterms:W3CDTF">2014-01-06T21:54:09Z</dcterms:modified>
  <cp:revision>15</cp:revision>
  <dc:subject/>
  <dc:title>Similar Triang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